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6D6-4D3D-4527-84EF-6D24B9C7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6A2-2BA0-4999-8ED8-A4EAF140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0A6-855E-4618-9BA9-36366BE9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3B5-014F-40C7-A47C-51BE91CA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34D6-92C7-4E27-B4B4-CDCBDF8E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7C5D-41F7-4FB6-ABC5-D3125EE0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D7EE-26CF-452C-8323-5235D257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6B62-D8B7-4577-8C53-186D6505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538E-900D-47A5-AFD7-E6505111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8C6F-4152-49F3-BA9E-4AE80CC3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0910-7634-4371-AAB0-F18C18E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384-97A2-4D46-9AFC-8EB0BD91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2182-3291-4F39-B190-481B979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6DAC-3081-42C5-87AD-CE95CAD7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C5B0-543D-40EE-B5C8-FA578B54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DF5A-3D8E-451C-9A21-F5E92363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17F1-7578-41BD-8257-0375939B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EB7-84EE-456A-AF9A-247C5FD2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D63-F257-4CF9-B962-3A7E3C71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1D2-D158-4B47-8BEF-FD3BAA42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E9E-3C46-4A2F-B441-15148FE9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FBD-415C-4625-9F63-9F0BE18A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165-023F-4644-877C-98B124AC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B3C-F284-4B20-9E85-6E6C1C3B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6FA6-F74F-4372-BC43-773CD46FB5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2CC0-E9B9-476D-9403-392794B926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5.png"/><Relationship Id="rId3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ompararea numerelor naturale de la 0 la 100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118240" y="41655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&lt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40680" y="41482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37600" y="41655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352440" cy="885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760320" cy="1924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54880" y="32338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&lt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1598400" cy="2000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715000" y="312408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251600" y="3429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295280" y="24382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295280" y="30481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295280" y="27432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1295280" y="28954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676520" y="3048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1676520" y="2895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4419720" y="30481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4419720" y="28954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4419720" y="27432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4419720" y="25909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4800600" y="3048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4800600" y="2895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4"/>
          <a:stretch/>
        </p:blipFill>
        <p:spPr>
          <a:xfrm>
            <a:off x="4876920" y="2743200"/>
            <a:ext cx="81000" cy="81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5"/>
          <a:stretch/>
        </p:blipFill>
        <p:spPr>
          <a:xfrm>
            <a:off x="4800600" y="266688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91680" y="3352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15760" y="342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5400" y="338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6"/>
          <a:stretch/>
        </p:blipFill>
        <p:spPr>
          <a:xfrm>
            <a:off x="914400" y="43434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7"/>
          <a:stretch/>
        </p:blipFill>
        <p:spPr>
          <a:xfrm>
            <a:off x="990720" y="46483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8"/>
          <a:stretch/>
        </p:blipFill>
        <p:spPr>
          <a:xfrm>
            <a:off x="1066680" y="44956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9"/>
          <a:stretch/>
        </p:blipFill>
        <p:spPr>
          <a:xfrm>
            <a:off x="914400" y="44956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0"/>
          <a:stretch/>
        </p:blipFill>
        <p:spPr>
          <a:xfrm>
            <a:off x="1066680" y="43434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1"/>
          <a:stretch/>
        </p:blipFill>
        <p:spPr>
          <a:xfrm>
            <a:off x="990720" y="41911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2"/>
          <a:stretch/>
        </p:blipFill>
        <p:spPr>
          <a:xfrm>
            <a:off x="1371600" y="4343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3"/>
          <a:stretch/>
        </p:blipFill>
        <p:spPr>
          <a:xfrm>
            <a:off x="1371600" y="4495680"/>
            <a:ext cx="147600" cy="147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4"/>
          <a:stretch/>
        </p:blipFill>
        <p:spPr>
          <a:xfrm>
            <a:off x="4267080" y="43434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5"/>
          <a:stretch/>
        </p:blipFill>
        <p:spPr>
          <a:xfrm>
            <a:off x="4419720" y="42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6"/>
          <a:stretch/>
        </p:blipFill>
        <p:spPr>
          <a:xfrm>
            <a:off x="4343400" y="44197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7"/>
          <a:stretch/>
        </p:blipFill>
        <p:spPr>
          <a:xfrm>
            <a:off x="4343400" y="41148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8"/>
          <a:stretch/>
        </p:blipFill>
        <p:spPr>
          <a:xfrm>
            <a:off x="4495680" y="44197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9"/>
          <a:stretch/>
        </p:blipFill>
        <p:spPr>
          <a:xfrm>
            <a:off x="4724280" y="4343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0"/>
          <a:stretch/>
        </p:blipFill>
        <p:spPr>
          <a:xfrm>
            <a:off x="4724280" y="4191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1"/>
          <a:stretch/>
        </p:blipFill>
        <p:spPr>
          <a:xfrm>
            <a:off x="4267080" y="419112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914920" y="5257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3200" y="5137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52200" y="5060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xerci</a:t>
            </a:r>
            <a:r>
              <a:rPr b="0" lang="ro-RO" sz="4400" spc="-1" strike="noStrike">
                <a:solidFill>
                  <a:srgbClr val="dbbd71"/>
                </a:solidFill>
                <a:latin typeface="Arial"/>
              </a:rPr>
              <a:t>ţ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1. Aranjaţi numerele în ordine crescătoare, de la cel mai mic la cel mai m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13, 27, 9, 23,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2. Aranjaţi numerele în ordine descrescătoare, de la cel mai mare la cel mai m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29, 47, 81, 36, 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3. Puneţi semne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, &gt;,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7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5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2    21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94   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3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9    97       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7     7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54:46Z</dcterms:created>
  <dc:creator>Albert Hajnalka</dc:creator>
  <dc:description/>
  <dc:language>en-US</dc:language>
  <cp:lastModifiedBy> </cp:lastModifiedBy>
  <dcterms:modified xsi:type="dcterms:W3CDTF">2010-09-11T10:51:17Z</dcterms:modified>
  <cp:revision>3</cp:revision>
  <dc:subject/>
  <dc:title>Compararea numerelor naturale de la 0 la 100</dc:title>
</cp:coreProperties>
</file>